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2CD0B-2D54-416B-8B6D-8C0FA4159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64EF0-C322-4910-B891-C114ED39E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E23BC-8688-4E5C-8199-B762C98DC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9C196-9C6F-4C1F-AA5E-B2F0EF0B2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38E399-A2D8-4392-B2AD-55302A93522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C4982A-41E0-493D-AF32-833902BF623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E78953-6098-4957-AA40-69FD2EDCF0C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257EBA-EC35-4FAB-88BF-408B25FD4DE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4CE2E2-AA1B-49AD-9A37-2778FBF3E33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4238D9-BD4C-4722-AE36-097EBFB2DBF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E5A769-2714-477F-B20E-8BB9322089D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38667-87CC-4FEE-AAE3-C3B69FA43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0307D3-0690-4E63-9137-62F0C7261EC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19A60F-C3B7-49D6-865A-63F5612C983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415C9A-0130-4E5C-997F-C716C7CDE6C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5228AD-554D-459F-8F8E-1A88DF25682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91B164-BD7C-4225-B740-876A252C472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90852-0719-4FAE-8669-89E041608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E40CE-3718-4B53-A845-92038D62A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52B5D-E881-4832-A467-EA31EA0B0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FA01E-BC5C-43F2-A802-06BFB01CB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AF87C-0D50-4246-8AA7-09CFF78CD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390E8-9AD7-42DF-BC90-A2ABA07B6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E9129-E019-414B-8AAE-CE3E0DFDEB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35B73-AC44-4755-9CD1-9E086A7F9E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F600F-FD12-44E0-A5C4-380DDD7B85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000" y="404640"/>
            <a:ext cx="7915320" cy="611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1800" spc="-1" strike="noStrike">
                <a:solidFill>
                  <a:srgbClr val="ffffff"/>
                </a:solidFill>
                <a:latin typeface="Tahoma"/>
              </a:rPr>
              <a:t>T. C.</a:t>
            </a:r>
            <a:br>
              <a:rPr sz="1800"/>
            </a:br>
            <a:r>
              <a:rPr b="0" lang="en-US" sz="1800" spc="-1" strike="noStrike">
                <a:solidFill>
                  <a:srgbClr val="ffffff"/>
                </a:solidFill>
                <a:latin typeface="Tahoma"/>
              </a:rPr>
              <a:t>KOCAELİ ÜNİVERSİTESİ</a:t>
            </a:r>
            <a:br>
              <a:rPr sz="1800"/>
            </a:br>
            <a:r>
              <a:rPr b="0" lang="en-US" sz="1800" spc="-1" strike="noStrike">
                <a:solidFill>
                  <a:srgbClr val="ffffff"/>
                </a:solidFill>
                <a:latin typeface="Tahoma"/>
              </a:rPr>
              <a:t>SOSYAL BİLİMLER ENSTİTÜSÜ</a:t>
            </a:r>
            <a:br>
              <a:rPr sz="1800"/>
            </a:br>
            <a:br>
              <a:rPr sz="1800"/>
            </a:br>
            <a:br>
              <a:rPr sz="1800"/>
            </a:br>
            <a:r>
              <a:rPr b="0" lang="en-US" sz="1800" spc="-1" strike="noStrike">
                <a:solidFill>
                  <a:srgbClr val="ffffff"/>
                </a:solidFill>
                <a:latin typeface="Tahoma"/>
              </a:rPr>
              <a:t>Ortaöğretim Öğretmenlerinin</a:t>
            </a:r>
            <a:br>
              <a:rPr sz="1800"/>
            </a:br>
            <a:r>
              <a:rPr b="0" lang="en-US" sz="1800" spc="-1" strike="noStrike">
                <a:solidFill>
                  <a:srgbClr val="ffffff"/>
                </a:solidFill>
                <a:latin typeface="Tahoma"/>
              </a:rPr>
              <a:t> Örgütsel Adalet,</a:t>
            </a:r>
            <a:br>
              <a:rPr sz="1800"/>
            </a:br>
            <a:r>
              <a:rPr b="0" lang="en-US" sz="1800" spc="-1" strike="noStrike">
                <a:solidFill>
                  <a:srgbClr val="ffffff"/>
                </a:solidFill>
                <a:latin typeface="Tahoma"/>
              </a:rPr>
              <a:t> Örgütsel Güven,</a:t>
            </a:r>
            <a:br>
              <a:rPr sz="1800"/>
            </a:br>
            <a:r>
              <a:rPr b="0" lang="en-US" sz="1800" spc="-1" strike="noStrike">
                <a:solidFill>
                  <a:srgbClr val="ffffff"/>
                </a:solidFill>
                <a:latin typeface="Tahoma"/>
              </a:rPr>
              <a:t>Örgütsel Vatandaşlık </a:t>
            </a:r>
            <a:br>
              <a:rPr sz="1800"/>
            </a:br>
            <a:r>
              <a:rPr b="0" lang="en-US" sz="1800" spc="-1" strike="noStrike">
                <a:solidFill>
                  <a:srgbClr val="ffffff"/>
                </a:solidFill>
                <a:latin typeface="Tahoma"/>
              </a:rPr>
              <a:t>Davranışlarına İlişkin Algıları</a:t>
            </a:r>
            <a:br>
              <a:rPr sz="1800"/>
            </a:br>
            <a:br>
              <a:rPr sz="1800"/>
            </a:br>
            <a:br>
              <a:rPr sz="1800"/>
            </a:br>
            <a:r>
              <a:rPr b="0" lang="en-US" sz="1800" spc="-1" strike="noStrike">
                <a:solidFill>
                  <a:srgbClr val="ffffff"/>
                </a:solidFill>
                <a:latin typeface="Tahoma"/>
              </a:rPr>
              <a:t>DOKTORA TEZİ</a:t>
            </a:r>
            <a:br>
              <a:rPr sz="1800"/>
            </a:br>
            <a:br>
              <a:rPr sz="1800"/>
            </a:br>
            <a:r>
              <a:rPr b="0" lang="en-US" sz="1800" spc="-1" strike="noStrike">
                <a:solidFill>
                  <a:srgbClr val="ffffff"/>
                </a:solidFill>
                <a:latin typeface="Tahoma"/>
              </a:rPr>
              <a:t> Soner POLAT </a:t>
            </a:r>
            <a:br>
              <a:rPr sz="1800"/>
            </a:br>
            <a:br>
              <a:rPr sz="1800"/>
            </a:br>
            <a:r>
              <a:rPr b="0" lang="en-US" sz="1800" spc="-1" strike="noStrike">
                <a:solidFill>
                  <a:srgbClr val="ffffff"/>
                </a:solidFill>
                <a:latin typeface="Tahoma"/>
              </a:rPr>
              <a:t>TEZ DANIŞMANI: Prof. Dr. Cevat CEEP</a:t>
            </a:r>
            <a:br>
              <a:rPr sz="1800"/>
            </a:br>
            <a:br>
              <a:rPr sz="1800"/>
            </a:br>
            <a:r>
              <a:rPr b="0" lang="en-US" sz="1800" spc="-1" strike="noStrike">
                <a:solidFill>
                  <a:srgbClr val="ffffff"/>
                </a:solidFill>
                <a:latin typeface="Tahoma"/>
              </a:rPr>
              <a:t>2007</a:t>
            </a:r>
            <a:br>
              <a:rPr sz="1800"/>
            </a:br>
            <a:br>
              <a:rPr sz="1800"/>
            </a:br>
            <a:endParaRPr b="0" lang="en-US" sz="1800" spc="-1" strike="noStrike">
              <a:solidFill>
                <a:srgbClr val="ffffff"/>
              </a:solidFill>
              <a:latin typeface="Tahoma"/>
            </a:endParaRPr>
          </a:p>
        </p:txBody>
      </p:sp>
      <p:sp>
        <p:nvSpPr>
          <p:cNvPr id="84" name=""/>
          <p:cNvSpPr/>
          <p:nvPr/>
        </p:nvSpPr>
        <p:spPr>
          <a:xfrm>
            <a:off x="1403280" y="386064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85" name=""/>
          <p:cNvSpPr/>
          <p:nvPr/>
        </p:nvSpPr>
        <p:spPr>
          <a:xfrm>
            <a:off x="4539600" y="0"/>
            <a:ext cx="64800" cy="2746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86" name=""/>
          <p:cNvSpPr/>
          <p:nvPr/>
        </p:nvSpPr>
        <p:spPr>
          <a:xfrm>
            <a:off x="-360" y="0"/>
            <a:ext cx="29520" cy="122040"/>
          </a:xfrm>
          <a:prstGeom prst="rect">
            <a:avLst/>
          </a:prstGeom>
          <a:noFill/>
          <a:ln w="0">
            <a:noFill/>
          </a:ln>
        </p:spPr>
        <p:style>
          <a:lnRef idx="0"/>
          <a:fillRef idx="0"/>
          <a:effectRef idx="0"/>
          <a:fontRef idx="minor"/>
        </p:style>
        <p:txBody>
          <a:bodyPr wrap="none" lIns="0" rIns="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666666"/>
                </a:solidFill>
                <a:latin typeface="Arial"/>
                <a:ea typeface="Arial"/>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INIRLILIKLAR</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Betimsel nitelikte olan bu evrenini Türkiye’deki 2006-2007 eğitim-öğretim yılında ortaöğretim kurumların da çalışan öğretmenler; çalışma örneklemini 721’i genel liselerde; 560’ı ise mesleki teknik liselerde çalışan 1281 ortaöğretim öğretmeni oluşturmaktadı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ANIMLAR</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u="sng">
                <a:solidFill>
                  <a:srgbClr val="ffffff"/>
                </a:solidFill>
                <a:uFillTx/>
                <a:latin typeface="Tahoma"/>
              </a:rPr>
              <a:t>Örgütsel adalet:</a:t>
            </a:r>
            <a:r>
              <a:rPr b="0" i="1" lang="tr-TR" sz="3200" spc="-1" strike="noStrike">
                <a:solidFill>
                  <a:srgbClr val="ffffff"/>
                </a:solidFill>
                <a:latin typeface="Tahoma"/>
              </a:rPr>
              <a:t>  genel anlamdaki adalet algısının iş yerine yansıması yani iş yerine ilişkin adalet algısıdır. (Greenberg, 1990b; Byrne ve Cropanzano, 2001). </a:t>
            </a:r>
            <a:endParaRPr b="0" lang="en-US" sz="3200" spc="-1" strike="noStrike">
              <a:solidFill>
                <a:srgbClr val="ffffff"/>
              </a:solidFill>
              <a:latin typeface="Tahoma"/>
            </a:endParaRPr>
          </a:p>
          <a:p>
            <a:pPr marL="343080" indent="-343080" algn="just">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ffffff"/>
                </a:solidFill>
                <a:latin typeface="Tahoma"/>
              </a:rPr>
              <a:t>Dağıtımsal, işlemsel ve etkileşimsel adalet adalet olmak üzere üç boyutta incelemişt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ANIMLAR</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u="sng">
                <a:solidFill>
                  <a:srgbClr val="ffffff"/>
                </a:solidFill>
                <a:uFillTx/>
                <a:latin typeface="Tahoma"/>
              </a:rPr>
              <a:t>Örgütsel Güven:</a:t>
            </a:r>
            <a:r>
              <a:rPr b="1" i="1" lang="tr-TR" sz="2800" spc="-1" strike="noStrike">
                <a:solidFill>
                  <a:srgbClr val="ffffff"/>
                </a:solidFill>
                <a:latin typeface="Tahoma"/>
              </a:rPr>
              <a:t> </a:t>
            </a:r>
            <a:r>
              <a:rPr b="0" i="1" lang="tr-TR" sz="2800" spc="-1" strike="noStrike">
                <a:solidFill>
                  <a:srgbClr val="ffffff"/>
                </a:solidFill>
                <a:latin typeface="Tahoma"/>
              </a:rPr>
              <a:t>Genel anlamda iki tarafın birbirlerine kötü niyet taşımayacağına (iyi niyet eksikliği olmayacağına) dayalı savunmasız kalma istekliliğidir (Baier, 1986, Akt; Neveu, 2004).Örgüt içerisinde güven, hem birey düzeyinde oluşmakta hem de örgüt düzeyinde oluşmaktadır. Fakat bireye güven ve örgüte güven birleşerek toplamda örgütsel güveni oluşturmaktadır. Özetle örgüt üyelerinin örgüte karşı beslediği güven eğilimidir (Zaheer ve diğer., 1998).</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ANIMLAR</a:t>
            </a: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ahoma"/>
              </a:rPr>
              <a:t>Örgütsel Vatandaşlık Davranışı:</a:t>
            </a:r>
            <a:r>
              <a:rPr b="1" i="1" lang="en-US" sz="2800" spc="-1" strike="noStrike">
                <a:solidFill>
                  <a:srgbClr val="ffffff"/>
                </a:solidFill>
                <a:latin typeface="Tahoma"/>
              </a:rPr>
              <a:t> </a:t>
            </a:r>
            <a:r>
              <a:rPr b="0" i="1" lang="en-US" sz="2800" spc="-1" strike="noStrike">
                <a:solidFill>
                  <a:srgbClr val="ffffff"/>
                </a:solidFill>
                <a:latin typeface="Tahoma"/>
              </a:rPr>
              <a:t>Ona göre örgütsel vatandaşlık davranışı, biçimsel ödül sisteminde doğrudan, tam olarak bulunmayan ve dikkate alınmayan, fakat bir bütün olarak örgütün işlevlerini verimli bir biçimde yerine getirmesine yardımcı olan, gönüllülüğe dayalı davranışlardır.</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r>
              <a:rPr b="0" i="1" lang="en-US" sz="2800" spc="-1" strike="noStrike">
                <a:solidFill>
                  <a:srgbClr val="ffffff"/>
                </a:solidFill>
                <a:latin typeface="Tahoma"/>
              </a:rPr>
              <a:t>Organ(1997)'a göre, örgütsel vatandaşlık davranışını yardımlaşma, nezaket, vicdanlılık, centilmenlik ve sivil erdem olmak üzere beş boyutta ele almıştı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YÖNTEM</a:t>
            </a:r>
            <a:br>
              <a:rPr sz="4000"/>
            </a:br>
            <a:endParaRPr b="0" lang="en-US" sz="40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Türkiye’deki yedi coğrafi bölgenin her birinden tesadüfen ikişer il seçilerek; seçilen 14 ildeki 1683 ortaöğretim okullarındaki 42697 Öğretmen araştırmanın çalışma evrenini oluşturmuştur. Örneklem büyüklüğünü belirlemede n= N t² p q / d² (N-1) + t² p q (Baş, 2001) formülü kullanılmıştır. Örneklem büyüklüğü 1281 kişi olarak hesaplanmıştır.Örneklem büyüklüğü çalışma evrenindeki büyüklüğe bölünerek tabaka ağırlığı hesaplanmıştır (Tabaka ağırlığı = 1281 / 42697 = 0,03). Böylece çalışma evrenin %3’ü alınarak örneklem büyüklüğü olan 1281 kişi Dengeli bir şekilde il tabakalarına dağıtılmıştır. İl tabakalarındaki genel ve Mesleki teknik liselerde görev yapan öğretmen sayısının %3’ü alınarak Örneklemin çalışma evrenini temsil etmesi sağlanmıştır. Örnekleme alınan 1281öğretmenin 721’i genel liselerde; 560’ı ise mesleki teknik liselerde çalışmaktadı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RAŞTIRMA</a:t>
            </a:r>
            <a:r>
              <a:rPr b="0" lang="en-US" sz="4400" spc="-1" strike="noStrike">
                <a:solidFill>
                  <a:srgbClr val="ffffff"/>
                </a:solidFill>
                <a:latin typeface="Tahoma"/>
              </a:rPr>
              <a:t> </a:t>
            </a:r>
            <a:r>
              <a:rPr b="1" lang="en-US" sz="4400" spc="-1" strike="noStrike">
                <a:solidFill>
                  <a:srgbClr val="ffffff"/>
                </a:solidFill>
                <a:latin typeface="Tahoma"/>
              </a:rPr>
              <a:t>MODELİ</a:t>
            </a:r>
            <a:endParaRPr b="0" lang="en-US" sz="4400" spc="-1" strike="noStrike">
              <a:solidFill>
                <a:srgbClr val="ffffff"/>
              </a:solidFill>
              <a:latin typeface="Tahoma"/>
            </a:endParaRPr>
          </a:p>
        </p:txBody>
      </p:sp>
      <p:sp>
        <p:nvSpPr>
          <p:cNvPr id="114" name="PlaceHolder 2"/>
          <p:cNvSpPr>
            <a:spLocks noGrp="1"/>
          </p:cNvSpPr>
          <p:nvPr>
            <p:ph/>
          </p:nvPr>
        </p:nvSpPr>
        <p:spPr>
          <a:xfrm>
            <a:off x="468360" y="2565360"/>
            <a:ext cx="8229600" cy="2260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Betimsel nitelikte olan bu araştırma Türkiye’deki 2006-2007 eğitim-öğretim yılında ortaöğretim kurumların da çalışan öğretmenler oluşturmaktadı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VREN VE</a:t>
            </a:r>
            <a:r>
              <a:rPr b="0" lang="en-US" sz="4400" spc="-1" strike="noStrike">
                <a:solidFill>
                  <a:srgbClr val="ffffff"/>
                </a:solidFill>
                <a:latin typeface="Tahoma"/>
              </a:rPr>
              <a:t> </a:t>
            </a:r>
            <a:r>
              <a:rPr b="1" lang="en-US" sz="4400" spc="-1" strike="noStrike">
                <a:solidFill>
                  <a:srgbClr val="ffffff"/>
                </a:solidFill>
                <a:latin typeface="Tahoma"/>
              </a:rPr>
              <a:t>ÖRNEKLEM</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İl Milli Eğitim müdürlüklerinin rasgele seçtikleri 2’si genel lise ve 2’si mesleki teknik lise olmak üzere 4 lisedeki tüm öğretmenler örnekleme alınmıştır. İl Milli Eğitim müdürlükleri, okulları belirlerken okulların öğretmen sayısı, il ve ilçe merkezinde olması gibi nitelikleri düşünerek seçtikleri okulların ilerlindeki ortaöğretim okullarını temsil etmesine özen göstermişlerd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VERİLERİN TOPLANMASI</a:t>
            </a: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Tahoma"/>
              </a:rPr>
              <a:t>Araştırmanın verilerini toplamak için dört farklı ölçme aracı kullanılmıştır.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Tahoma"/>
              </a:rPr>
              <a:t>Ortaöğretim Okulu Öğretmenlerin Örgütsel Adalet Algısı Ölçeği. </a:t>
            </a:r>
            <a:r>
              <a:rPr b="0" lang="tr-TR" sz="2400" spc="-1" strike="noStrike">
                <a:solidFill>
                  <a:srgbClr val="ffffff"/>
                </a:solidFill>
                <a:latin typeface="Tahoma"/>
              </a:rPr>
              <a:t>Niehoff ve Moorman (1993).</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Tahoma"/>
              </a:rPr>
              <a:t>Ortaöğretim Okulu Öğretmenlerinin Yöneticilere Güven Algısı Ölçeği.</a:t>
            </a:r>
            <a:r>
              <a:rPr b="0" lang="tr-TR" sz="2400" spc="-1" strike="noStrike">
                <a:solidFill>
                  <a:srgbClr val="ffffff"/>
                </a:solidFill>
                <a:latin typeface="Tahoma"/>
              </a:rPr>
              <a:t>Hoy ve Tschannen-Moran(2003)</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Tahoma"/>
              </a:rPr>
              <a:t>Ortaöğretim Okulu Öğretmenlerinin Okula Güven Algısı Ölçeği.</a:t>
            </a:r>
            <a:r>
              <a:rPr b="0" lang="tr-TR" sz="2400" spc="-1" strike="noStrike">
                <a:solidFill>
                  <a:srgbClr val="ffffff"/>
                </a:solidFill>
                <a:latin typeface="Tahoma"/>
              </a:rPr>
              <a:t>Daboval, Comish ve Swindle ve Gaster’in(1994)</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Tahoma"/>
              </a:rPr>
              <a:t>Ortaöğretim Okulu Öğretmenlerinin Örgütsel Vatandaşlık Davranışı Algısı Ölçeği.</a:t>
            </a:r>
            <a:r>
              <a:rPr b="0" lang="tr-TR" sz="2400" spc="-1" strike="noStrike">
                <a:solidFill>
                  <a:srgbClr val="ffffff"/>
                </a:solidFill>
                <a:latin typeface="Tahoma"/>
              </a:rPr>
              <a:t>Podsakoff veMacKenzie.(1989).</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VERİLERİN TOPLANMASI</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Tahoma"/>
              </a:rPr>
              <a:t>Likert tipli veri toplama aracında maddeler: “(1) Kesinlikle Katılmıyorum, ile (5) Tamamen Katılıyorum” arasında 5 aralıklı olarak derecelendirilmiştir.</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Tahoma"/>
              </a:rPr>
              <a:t>Araştırma MEB Eğitimi Araştırma ve Geliştirme Başkanlığı’nca desteklendiğinden araştırma ölçeğinin dağıtımı ve toplanması Başkanlık tarafından yapılmıştır. Bakanlıkça resmi yazışmayla dağıtımı yapılıp toplanan ölçekler araştırmacıya kargo yoluyla teslim edilmiştir.</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VERİLERİN ÇÖZÜMÜ VE YORUMLANMASI</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Başkanlık aracılığı ile örneklemdeki okullara gönderilen 1281 ölçeğin, 881’ i (%69) geri dönmüştür. Geri dönen 881 ölçeğin 30 adet ölçek çeşitli nedenlerle analize alınmamış 851 adet ölçek analize tabi tutulmuştur.</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raştırmada öğretmenlerin okullarına ilişkin örgütsel adalet, örgütsel güven ve örgütsel vatandaşlık davranışı ve bunların alt boyutlarına ait değişkenlere ilişkin algı düzeylerini saptamak için aritmetik ortalamaya bakılmıştır. Algı düzeylerinin kişisel ve örgütsel özelliklere göre değişip değişmediğini test etmek içinse t testi ve tek yönlü varyans analizi yapılmıştı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68360" y="212256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   </a:t>
            </a:r>
            <a:r>
              <a:rPr b="0" i="1" lang="en-US" sz="3200" spc="-1" strike="noStrike">
                <a:solidFill>
                  <a:srgbClr val="ffffff"/>
                </a:solidFill>
                <a:latin typeface="Tahoma"/>
              </a:rPr>
              <a:t>Ortaöğretim okullarında görev yapan öğretmenlerin örgütsel adalet, örgütsel güven ve örgütsel vatandaşlık davranışları değişkenlerine ilişkin algı düzeyleri ve  bu değişkenler arasındaki ilişki nedir?  </a:t>
            </a:r>
            <a:endParaRPr b="0" lang="en-US" sz="3200" spc="-1" strike="noStrike">
              <a:solidFill>
                <a:srgbClr val="ffffff"/>
              </a:solidFill>
              <a:latin typeface="Tahoma"/>
            </a:endParaRPr>
          </a:p>
        </p:txBody>
      </p:sp>
      <p:sp>
        <p:nvSpPr>
          <p:cNvPr id="88"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BLEM</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ULGULAR VE YORUM</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ahoma"/>
              </a:rPr>
              <a:t>Öğretmenlerin Örgütsel Adalet ve Alt Boyutlarına İlişkin Algı Düzeyleri:</a:t>
            </a:r>
            <a:r>
              <a:rPr b="0" i="1" lang="en-US" sz="2800" spc="-1" strike="noStrike">
                <a:solidFill>
                  <a:srgbClr val="ffffff"/>
                </a:solidFill>
                <a:latin typeface="Tahoma"/>
              </a:rPr>
              <a:t> Genel olarak öğretmenlerin okullarına ilişkin adalet algıları ( x=3.66) “yüksek” düzeydedir. Bu sonuç Türkiye’de yapılan diğer araştırmaların bulgularıyla tutarlık göstermektedir. öğretmenlerin örgütsel adaletin üç alt boyutunun üçünde de düzeyi “yüksek” düzeyde algılandığı görülmekted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ULGULAR VE YORUM</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Ortaöğretim yöneticilerinin ilköğretim okulu yöneticilerine göre daha dağıtımı daha adil yaptıkları yada ilköğretimde dağıtım adaleti ile ilgili çok fazla sorun yaşanmadığı söylenebilir. Eğitim kademeleri içinde dağıtımsal adalet konusunda en çok sıkıntı yaşanan kademe yükseköğretimdir. Öğretmenlerin işlemsel adalet ve etkileşimsel adalet algı düzeyleri, “yüksek” düzeyde çıkmış ve Türkiye’de eğitim ve eğitim dışı alanlarda yapılan araştırmalardaki algılama düzeyi ile tutarlılık göstermektedir. Öğretmenlerin adalet algıları cinsiyet, kıdem, son çalışılan okuldaki hizmet süresi ve son çalışılan okuldaki öğretmen sayısı değişkenlerinden etkilenirken; okul türü, yaş ve öğretmenlerin çalışma alanı değişkenlerinden etkilenmemektedi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ULGULAR VE YORUM</a:t>
            </a: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ahoma"/>
              </a:rPr>
              <a:t>Öğretmenlerin Örgütsel Güven ve Alt Boyutlarına İlişkin Algı Düzeyleri:</a:t>
            </a:r>
            <a:r>
              <a:rPr b="1" i="1" lang="en-US" sz="2400" spc="-1" strike="noStrike">
                <a:solidFill>
                  <a:srgbClr val="ffffff"/>
                </a:solidFill>
                <a:latin typeface="Tahoma"/>
              </a:rPr>
              <a:t> </a:t>
            </a:r>
            <a:r>
              <a:rPr b="0" i="1" lang="en-US" sz="2400" spc="-1" strike="noStrike">
                <a:solidFill>
                  <a:srgbClr val="ffffff"/>
                </a:solidFill>
                <a:latin typeface="Tahoma"/>
              </a:rPr>
              <a:t>Öğretmenlerin okullarına ilişkin örgütsel güven algısı ( x=3,79) düzeyi “yüksek” düzeydedir. Öğretmenler, gerek yöneticilerine gerekse okullarına yüksek düzeyde güvenmekle birlikte; okullarına ( x= 3,85), yöneticilerine( x=3,70) göre biraz daha fazla güvenmektedir. Örgütsel güven algısı ve alt boyutları olan yöneticiye güven ve okula güven algısı “yüksek düzeyde” algılanmış ve Türkiye’de yapılan (Tablo 6) diğer araştırmalardaki algı düzeyleri ile hemen hemen aynı düzeydedir.</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ULGULAR VE YORUM</a:t>
            </a: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Öğretmenlerin güven düzeyi cinsiyet, kıdem, son çalışılan okuldaki görev süresi ve son çalışılan okuldaki öğretmen sayısı, değişkenlerinden etkilenirken; okul türü, yaş ve öğretmenlerin çalışma alanı değişkenlerinden etkilenmemekted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ULGULAR VE YORUM</a:t>
            </a: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Öğretmenlerin Örgütsel Vatandaşlık Davranışı ve Alt </a:t>
            </a:r>
            <a:r>
              <a:rPr b="1" i="1" lang="en-US" sz="2000" spc="-1" strike="noStrike" u="sng">
                <a:solidFill>
                  <a:srgbClr val="ffffff"/>
                </a:solidFill>
                <a:uFillTx/>
                <a:latin typeface="Tahoma"/>
              </a:rPr>
              <a:t>Boyutlarına İlişkin Algı Düzeyleri: </a:t>
            </a:r>
            <a:r>
              <a:rPr b="0" i="1" lang="en-US" sz="2000" spc="-1" strike="noStrike">
                <a:solidFill>
                  <a:srgbClr val="ffffff"/>
                </a:solidFill>
                <a:latin typeface="Tahoma"/>
              </a:rPr>
              <a:t>Öğretmenlerin kendilerine ilişkin örgütsel vatandaşlık algısı ( x=4,10), “yüksek” düzeydedir. Öğretmenlerin örgütsel vatandaşlığın alt boyutlarına ilişkin algılarına ait aritmetik ortalamalar incelendiğinde vicdanlılık davranışının gösterilme düzeyi “çok yüksek” düzeyde algılanırken diğer üç alt boyuttaki davranışların gösterilme düzeyi “yüksek” düzeyde algılanmıştır. Boyutlara ilişkin algı düzeylerinde ilk sırayı vicdanlılık ( x=4,27) alırken bunu sıra ile centilmenlik ( x=4,14), yardımlaşma( x=4,10) ve sivil erdem (3,92) izlemektedir (Tablo 7). Bulgular Türkiye’deki bu konu ile ilgili araştırmanın sonuçları ile tutarlılık göstermektedi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ULGULAR VE YORUM</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Öğretmenlerin gerek kişisel özellikleri (cinsiyet, yaş, kıdem, branş, son çalıştığı okuldaki hizmet süresi) gerekse okulun özellikleri (okul türü, okuldaki öğretmen sayısı), öğretmenlerin örgütsel vatandaşlık davranışı ve alt boyutlarında yer alan davranışlara ilişkin algılamalarında anlamlı fark yaratmamıştı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ULGULAR VE YORUM</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u="sng">
                <a:solidFill>
                  <a:srgbClr val="ffffff"/>
                </a:solidFill>
                <a:uFillTx/>
                <a:latin typeface="Tahoma"/>
              </a:rPr>
              <a:t>Öğretmenlerin Örgütsel Adalet, Örgütsel Güven, Örgütsel Vatandaşlık Davranışı ve Bunların Alt Boyutlarının Birbirleri İle İlişkisi: </a:t>
            </a:r>
            <a:r>
              <a:rPr b="0" i="1" lang="tr-TR" sz="2000" spc="-1" strike="noStrike">
                <a:solidFill>
                  <a:srgbClr val="ffffff"/>
                </a:solidFill>
                <a:latin typeface="Tahoma"/>
              </a:rPr>
              <a:t>Örgütsel adaletle örgütsel güven arasında yüksek bir ilişki (r=0,85, p&lt;.01) bulunmaktadır (Tablo 9) . Yönetimin adil davranması, işgörenlerde  saygınlık yaratmakta ve güvenin gelişmesine katkıda bulunmaktadır. örgütsel adaletin, örgütsel güvenin oluşumunda ve düzeyinin belirlenmesinde öncül olduğu ortaya konulmuştur. Öğretmenlerin örgütsel adalet algısı ile örgütsel vatandaşlık davranışı(r=0,43, p&lt;.01) arasında olumlu orta düzeyde bir ilişki olduğu bulunmuştur. Öğretmenlerin örgütsel güven algısı ile örgütsel vatandaşlık davranışı(r=0,47, p&lt;.01) algısı arasında orta düzeyde bir ilişki bulunmuştur. işgörenlerin, yöneticilerine duydukları güven düzeyinin yüksek olması da örgütsel vatandaşlık davranışını gösterme eğilimlerini artırmaktadı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ÖZET</a:t>
            </a:r>
            <a:endParaRPr b="0" lang="en-US" sz="4400" spc="-1" strike="noStrike">
              <a:solidFill>
                <a:srgbClr val="ffffff"/>
              </a:solidFill>
              <a:latin typeface="Tahoma"/>
            </a:endParaRPr>
          </a:p>
        </p:txBody>
      </p:sp>
      <p:sp>
        <p:nvSpPr>
          <p:cNvPr id="13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raştırma sonucunda öğretmenlerin adalet ve güven algı düzeylerinin okulun öğretmen sayısına bağlı büyüklükten etkilendiğini göstermektedir. Bu nedenle çok öğretmenli büyük okullar yerine, az öğretmenlerin yer alacağı küçük okulların kurulması öğretmenlerin örgütsel adalet ve güven algılarını yükseltecektir. Araştırma sonucunda öğretmenlerin örgütsel adalet, örgütsel güven ve örgütsel vatandaşlık davranışı algılarının birbiri ile ilişkili olduğu etkilendiği saptanmıştır. Bu nedenle okul yöneticilerine bu kavramlara ilişkin kuramsal ve uygulamaya yönelik bilgilerin verilmesi, bu kavramların öneminin kavranması açısından önemlidir.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YARGI</a:t>
            </a: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Öğretmenlerin okul yöneticilerinin uygulamalarına dayalı örgütsel adalet algıları, okullarına ilişkin örgütsel güven algı düzeylerini önemli bir şekilde etkilemektedir. Bu nedenle okullarda örgütsel güven düzeyini artırılması için yöneticilerin adil davranmaları gerekmektedir. Okul yöneticilerin ödül ve cezaları verirken eşit davranması ve işlemsel adaletin, gerektirdiği kurallara uygun davranması örgütsel güveni artıracaktır. Okul yöneticilerinin gerek öğretmenlerin kendine güven düzeyini artırması gerekse okullarına güven düzeyini artırması öğretmenlerin örgütsel vatandaşlık davranışını sergileme oranını artıracaktı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ÖNERİLER</a:t>
            </a:r>
            <a:endParaRPr b="0" lang="en-US" sz="4400" spc="-1" strike="noStrike">
              <a:solidFill>
                <a:srgbClr val="ffffff"/>
              </a:solidFill>
              <a:latin typeface="Tahoma"/>
            </a:endParaRPr>
          </a:p>
        </p:txBody>
      </p:sp>
      <p:sp>
        <p:nvSpPr>
          <p:cNvPr id="14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	</a:t>
            </a:r>
            <a:r>
              <a:rPr b="0" i="1" lang="tr-TR" sz="2000" spc="-1" strike="noStrike">
                <a:solidFill>
                  <a:srgbClr val="ffffff"/>
                </a:solidFill>
                <a:latin typeface="Tahoma"/>
              </a:rPr>
              <a:t>Araştırma sonucunda öğretmenlerin örgütsel adalet, “yüksek düzeyde” olduğunu saptamıştır. Öğretmenlerin örgütsel adalet algılarını artırmak için okul yöneticilerine şunlar önerilebili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a) Okul yöneticilerinin etik davranışta bulunması,</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b) Okul yöneticilerinin eğitim sistemi ve okulla ilgili kurallara sadık kalarak keyfi uygulamalardan kaçınması ve bu kuralları herkese eşit uygulaması,</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c) Okul yöneticilerinin öğretmenlere verilen ödül, ek ders ücreti alınacak derslerin dağılımı, ders dışı görevler ve ceza dağıtımı gibi uygulamalarda hak esasına dayalı olarak adil davranması,</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d) Okul yöneticilerinin yöneticilik davranışı yerine, liderlik özellikle etik liderlik davranışı göstererek öğretmenlerde eşitlikalgısını yükseltmesi.</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LT PROBLEMLER</a:t>
            </a:r>
            <a:endParaRPr b="0" lang="en-US" sz="4400" spc="-1" strike="noStrike">
              <a:solidFill>
                <a:srgbClr val="ffffff"/>
              </a:solidFill>
              <a:latin typeface="Tahoma"/>
            </a:endParaRPr>
          </a:p>
        </p:txBody>
      </p:sp>
      <p:sp>
        <p:nvSpPr>
          <p:cNvPr id="90"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Öğretmenlerin okullarına ilişkin </a:t>
            </a:r>
            <a:r>
              <a:rPr b="1" i="1" lang="en-US" sz="2800" spc="-1" strike="noStrike" u="sng">
                <a:solidFill>
                  <a:srgbClr val="ffffff"/>
                </a:solidFill>
                <a:uFillTx/>
                <a:latin typeface="Tahoma"/>
              </a:rPr>
              <a:t>örgütsel adalet</a:t>
            </a:r>
            <a:r>
              <a:rPr b="0" i="1" lang="en-US" sz="2800" spc="-1" strike="noStrike">
                <a:solidFill>
                  <a:srgbClr val="ffffff"/>
                </a:solidFill>
                <a:latin typeface="Tahoma"/>
              </a:rPr>
              <a:t> ve alt boyutlarına ilişkin algı düzeyleri nedi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ahoma"/>
              </a:rPr>
              <a:t>Örgütsel adalete</a:t>
            </a:r>
            <a:r>
              <a:rPr b="0" i="1" lang="en-US" sz="2800" spc="-1" strike="noStrike">
                <a:solidFill>
                  <a:srgbClr val="ffffff"/>
                </a:solidFill>
                <a:latin typeface="Tahoma"/>
              </a:rPr>
              <a:t> ilişkin algı düzeyleri öğretmenlerin kişisel özellikleri (cinsiyet, yaş, kıdem, branş, son çalıştığı okuldaki hizmet süresi) ve okulun bazı özelliklerine (okul türü, okuldaki öğretmen sayısı) göre değişmekte mid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ÖNERİLER</a:t>
            </a: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Tahoma"/>
              </a:rPr>
              <a:t>	</a:t>
            </a:r>
            <a:r>
              <a:rPr b="0" i="1" lang="tr-TR" sz="1800" spc="-1" strike="noStrike">
                <a:solidFill>
                  <a:srgbClr val="ffffff"/>
                </a:solidFill>
                <a:latin typeface="Tahoma"/>
              </a:rPr>
              <a:t>Araştırma sonucunda öğretmenlerin örgütsel güven algısının “yüksek düzeyde” olduğunu saptamıştır. Öğretmenlerin örgütsel güven algılarını artırmak için okul yöneticilerine şunlar önerilebilir:</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Tahoma"/>
              </a:rPr>
              <a:t>a) Okul yöneticilerinin yönetsel davranış yerine liderlik davranışını göstermesi; özelikle dönüşümsel liderlik, etik liderlik ve öğretimsel liderlik davranışlarını göstererek öğretmenleri desteklemesi ve yardım geleceği algısı yaratması,</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Tahoma"/>
              </a:rPr>
              <a:t>b) Okul yöneticilerinin öğretmenlere adil davranarak onların adalet ve eşitlik algılarını yükseltmesi,</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Tahoma"/>
              </a:rPr>
              <a:t>c) Okul yöneticilerinin öğretmenlerin işdoyumu, bağlılık ve örgütsel kimlik algılarını yükseltici çalışmalar yapması,</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Tahoma"/>
              </a:rPr>
              <a:t>d) Okul müdürlerinin işbirliği ve paylaşıma önem vermesi,</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Tahoma"/>
              </a:rPr>
              <a:t>e) Okul müdürlerinin öğretmenler üzerindeki gözetimi azaltarak güçlendirmesi, özerkleştirmesi,</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Tahoma"/>
              </a:rPr>
              <a:t>f) Okul yöneticilerinin öğretmenleri sürekli olarak güdülem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ÖNERİLER</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g)Okul yöneticilerinin olumlu açık bir örgüt kültürü yaratarak etkili ve açık iletişim sistemi kurması ve bu süreçte örnek model olması,</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h) Okul yöneticilerinin sürekli kendilerini geliştirerek uzmanlığınımhissettirmes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i) Okuldaki herkesin okulun misyonu, vizyonu ve ana değerleriyle ilgili etkinlik ve tartışmalara katılması,</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j) Okul yöneticilerinin öğretmenlere kişisel dürüstlüğü göstermes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k) Okul yöneticilerinin öğretmenlere önemli olduklarını hissettirmes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l) Okul yöneticilerinin öğretmenlere ulaşılabilir ve açık olması ve bunu öğretmenlere göstermes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ÖNERİLER</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m)Okul yöneticilerinin öğretmenlere karar verme sürecine katılması,</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n) Okul yöneticilerinin öğretmenlerin denemelerinin kutlanması ve risk almanın özendirilmes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o) Okul yöneticilerinin öğretmenlerin görüş ayrılığı doğal karşılaması ve öğretmenlere bunun değerini hissettirmes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p) Okul yöneticilerinin eleştiriye açık olması ve öğretmenleri eleştiriye özendirmes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q) Okul yöneticilerinin öğretmenlere uzmanlığını hissettirmesi ve mesleki kaynak sağlaması,</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Tahoma"/>
              </a:rPr>
              <a:t>r) Okul yöneticilerinin öğretmenlere okula yeni gelen öğretmenlerihoş karşılaması,</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ÖNERİLER</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Araştırma sonucunda öğretmenlerin örgütsel vatandaşlık davranışı algılarının “yüksek düzeyde” olduğunu saptamıştır. Bunu “çok yüksek düzeye” taşımanın yoları aranmalıdır. Örgütsel adalet algısı ve örgütsel güven algısı artıkça örgütsel vatandaşlık davranışını gösterilme algısı da artmaktadır. Bu nedenle örgütsel adalet ve örgütsel güveni artıran özellikler örgütsel vatandaşlık davranışının gösterilmesini de doğrudan ve dolaylı olarak artıracaktır. Ayrıca öğretmenlerin örgütsel vatandaşlık davranışlarını geliştirmek için duyarlılık eğitimi verilmesi, okul ortamında sosyal sorumluluk verilmesi onların vatandaşlık davranışlarını gösterme eğilimini artırabili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LT PROBLEMLER</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ff"/>
                </a:solidFill>
                <a:latin typeface="Tahoma"/>
              </a:rPr>
              <a:t>Öğretmenlerin okullarına ilişkin </a:t>
            </a:r>
            <a:r>
              <a:rPr b="1" i="1" lang="tr-TR" sz="2800" spc="-1" strike="noStrike" u="sng">
                <a:solidFill>
                  <a:srgbClr val="ffffff"/>
                </a:solidFill>
                <a:uFillTx/>
                <a:latin typeface="Tahoma"/>
              </a:rPr>
              <a:t>örgütsel güven</a:t>
            </a:r>
            <a:r>
              <a:rPr b="0" i="1" lang="tr-TR" sz="2800" spc="-1" strike="noStrike">
                <a:solidFill>
                  <a:srgbClr val="ffffff"/>
                </a:solidFill>
                <a:latin typeface="Tahoma"/>
              </a:rPr>
              <a:t> ve alt boyutlarına ilişkin algı düzeyleri nedi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u="sng">
                <a:solidFill>
                  <a:srgbClr val="ffffff"/>
                </a:solidFill>
                <a:uFillTx/>
                <a:latin typeface="Tahoma"/>
              </a:rPr>
              <a:t>Örgütsel güvene</a:t>
            </a:r>
            <a:r>
              <a:rPr b="0" i="1" lang="tr-TR" sz="2800" spc="-1" strike="noStrike">
                <a:solidFill>
                  <a:srgbClr val="ffffff"/>
                </a:solidFill>
                <a:latin typeface="Tahoma"/>
              </a:rPr>
              <a:t> ilişkin algı düzeyleri öğretmenlerin kişisel özellikleri (cinsiyet, yaş, kıdem, branş, son çalıştığı okuldaki hizmet süresi) ve okulun bazı özelliklerine (okul türü, okuldaki öğretmensayısı) göre değişmekte mid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LT PROBLEMLER</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Öğretmenlerin okullarında gösterdikleri </a:t>
            </a:r>
            <a:r>
              <a:rPr b="1" i="1" lang="en-US" sz="2800" spc="-1" strike="noStrike" u="sng">
                <a:solidFill>
                  <a:srgbClr val="ffffff"/>
                </a:solidFill>
                <a:uFillTx/>
                <a:latin typeface="Tahoma"/>
              </a:rPr>
              <a:t>örgütsel vatandaşlık</a:t>
            </a:r>
            <a:r>
              <a:rPr b="0" i="1" lang="en-US" sz="2800" spc="-1" strike="noStrike">
                <a:solidFill>
                  <a:srgbClr val="ffffff"/>
                </a:solidFill>
                <a:latin typeface="Tahoma"/>
              </a:rPr>
              <a:t> davranışı ve alt boyutlarına ilişkin algı düzeyleri nedir?</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ahoma"/>
              </a:rPr>
              <a:t>Örgütsel vatandaşlık</a:t>
            </a:r>
            <a:r>
              <a:rPr b="0" i="1" lang="en-US" sz="2800" spc="-1" strike="noStrike">
                <a:solidFill>
                  <a:srgbClr val="ffffff"/>
                </a:solidFill>
                <a:latin typeface="Tahoma"/>
              </a:rPr>
              <a:t> davranışına ilişkin algı düzeyleri öğretmenlerin kişisel özellikleri (cinsiyet, yaş, kıdem, branş, son çalıştığı okuldaki hizmet süresi) ve okulun bazı özelliklerine (okul türü, okuldaki öğretmen sayısı) göre değişmekte midi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LT PROBLEMLER</a:t>
            </a:r>
            <a:endParaRPr b="0" lang="en-US" sz="4400" spc="-1" strike="noStrike">
              <a:solidFill>
                <a:srgbClr val="ffffff"/>
              </a:solidFill>
              <a:latin typeface="Tahoma"/>
            </a:endParaRPr>
          </a:p>
        </p:txBody>
      </p:sp>
      <p:sp>
        <p:nvSpPr>
          <p:cNvPr id="96" name="PlaceHolder 2"/>
          <p:cNvSpPr>
            <a:spLocks noGrp="1"/>
          </p:cNvSpPr>
          <p:nvPr>
            <p:ph/>
          </p:nvPr>
        </p:nvSpPr>
        <p:spPr>
          <a:xfrm>
            <a:off x="324000" y="2565000"/>
            <a:ext cx="8229600" cy="190044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Öğretmenlerin örgütsel adalet, örgütsel güven, örgütsel vatandaşlık davranışı birbirleri ile ilişkisi var mıdı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MAÇ</a:t>
            </a: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Ortaöğretim okullarında görev yapan öğretmenlerin örgütsel adalet, örgütsel güven ve örgütsel vatandaşlık davranışları değişkenlerine ilişkin algı düzeylerini saptayarak; bu değişkenler arasındaki ilişkiyi inceleme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ÖNEM</a:t>
            </a: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i="1" lang="en-US" sz="2800" spc="-1" strike="noStrike">
                <a:solidFill>
                  <a:srgbClr val="ffffff"/>
                </a:solidFill>
                <a:latin typeface="Tahoma"/>
              </a:rPr>
              <a:t>Örgütsel adalet, örgütsel güveni ve örgütsel vatandaşlık davranışını; örgütsel güvende örgütsel vatandaşlık davranışını doğrudan etkilemektedir. Bu değişkenlerden örgütsel çıktıya en yakını örgütsel vatandaşlık davranışıdır. Örgütün amaçlarına ulaşabilmesi için insanı ilgilendiren bu üç kavramın örgütsel girdi ve çıktılarının ortaya konulması, kavramların örgütsel çıktısının olumlu oluşması açısından büyük önem taşımaktadır.</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r>
              <a:rPr b="0" i="1"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VARSAYIM (SAYILTI)</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İl Milli Eğitim müdürlükleri, okulları belirlerken okulların öğretmen sayısı, il ve ilçe merkezinde olması gibi nitelikleri düşünerek seçtikleri okulların ilerlindeki ortaöğretim okullarını temsil etmesine özen göstermesi.</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6T12:06:48Z</dcterms:created>
  <dc:creator>levent</dc:creator>
  <dc:description/>
  <dc:language>en-US</dc:language>
  <cp:lastModifiedBy>levent</cp:lastModifiedBy>
  <dcterms:modified xsi:type="dcterms:W3CDTF">2010-12-26T17:46:12Z</dcterms:modified>
  <cp:revision>27</cp:revision>
  <dc:subject/>
  <dc:title>Slayt 1</dc:title>
</cp:coreProperties>
</file>